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0AC-244D-4D49-9BF6-899990782E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9AA-4138-41B6-8996-6377DA12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3B1-4B5A-4C9E-8551-AC58A3D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217-C21B-44E8-A537-088970D5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53A-DE4D-4E82-A8D3-E982D58F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AF9-0725-4E0B-A995-FEE3E6BB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A68-76E6-4534-8013-650D0D9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194-4BA0-4032-B958-06395B9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E8F-2795-4446-9880-A3589A5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615-A918-46B3-A851-BD995F3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7D5-EB2E-4987-8CE5-33BA633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6D5-2BC2-49F8-BFC3-660E7BD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08E-CFB2-440D-B6D6-23DF2BD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8F87-9569-4967-9FE7-151853FED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70520" y="1646280"/>
            <a:ext cx="86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7920" y="6311880"/>
            <a:ext cx="42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8280" y="6235560"/>
            <a:ext cx="139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E1CMPB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/07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4360" y="541440"/>
            <a:ext cx="18255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 21E10 MODULE M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9960" y="4876920"/>
            <a:ext cx="1278000" cy="14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7000" y="4983120"/>
            <a:ext cx="76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7440" y="5548320"/>
            <a:ext cx="46512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DT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11960" y="5224320"/>
            <a:ext cx="453960" cy="2260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27560" y="5897520"/>
            <a:ext cx="987480" cy="40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W =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ritten Ex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=  Performance        Ex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008080"/>
            <a:ext cx="10098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37160" y="2046240"/>
            <a:ext cx="86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4720" y="5554800"/>
            <a:ext cx="444600" cy="302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00240" y="3295800"/>
            <a:ext cx="22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8080" y="1482840"/>
            <a:ext cx="979200" cy="2017440"/>
            <a:chOff x="1378080" y="1482840"/>
            <a:chExt cx="979200" cy="2017440"/>
          </a:xfrm>
        </p:grpSpPr>
        <p:sp>
          <p:nvSpPr>
            <p:cNvPr id="63" name=""/>
            <p:cNvSpPr/>
            <p:nvPr/>
          </p:nvSpPr>
          <p:spPr>
            <a:xfrm>
              <a:off x="1378080" y="1482840"/>
              <a:ext cx="96192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 MOTO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RANSPORT VEHIC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MTV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5280" y="2816280"/>
              <a:ext cx="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5360" y="3021120"/>
              <a:ext cx="961920" cy="479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 Moto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ransport Vehic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MTV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4640" y="209556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97160" y="2330280"/>
              <a:ext cx="94608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roduction to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tor Trans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ehicle  (MTV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35120" y="1482840"/>
            <a:ext cx="2764080" cy="1369440"/>
            <a:chOff x="2535120" y="1482840"/>
            <a:chExt cx="2764080" cy="1369440"/>
          </a:xfrm>
        </p:grpSpPr>
        <p:sp>
          <p:nvSpPr>
            <p:cNvPr id="69" name=""/>
            <p:cNvSpPr/>
            <p:nvPr/>
          </p:nvSpPr>
          <p:spPr>
            <a:xfrm>
              <a:off x="2535120" y="1482840"/>
              <a:ext cx="947880" cy="6094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COOP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538360" y="2317680"/>
              <a:ext cx="998640" cy="534600"/>
              <a:chOff x="2538360" y="2317680"/>
              <a:chExt cx="998640" cy="534600"/>
            </a:xfrm>
          </p:grpSpPr>
          <p:sp>
            <p:nvSpPr>
              <p:cNvPr id="71" name=""/>
              <p:cNvSpPr/>
              <p:nvPr/>
            </p:nvSpPr>
            <p:spPr>
              <a:xfrm>
                <a:off x="2549520" y="2317680"/>
                <a:ext cx="943200" cy="482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538360" y="2376360"/>
                <a:ext cx="998640" cy="475920"/>
                <a:chOff x="2538360" y="2376360"/>
                <a:chExt cx="998640" cy="475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538360" y="2376360"/>
                  <a:ext cx="965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Scoop Load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310200" y="2641680"/>
                  <a:ext cx="2268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5299200" y="210024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122720" y="1473120"/>
            <a:ext cx="2781000" cy="1388880"/>
            <a:chOff x="4122720" y="1473120"/>
            <a:chExt cx="2781000" cy="1388880"/>
          </a:xfrm>
        </p:grpSpPr>
        <p:sp>
          <p:nvSpPr>
            <p:cNvPr id="77" name=""/>
            <p:cNvSpPr/>
            <p:nvPr/>
          </p:nvSpPr>
          <p:spPr>
            <a:xfrm>
              <a:off x="5931000" y="1473120"/>
              <a:ext cx="947520" cy="609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TORIZ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CRAP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905440" y="2327400"/>
              <a:ext cx="998280" cy="534600"/>
              <a:chOff x="5905440" y="2327400"/>
              <a:chExt cx="998280" cy="534600"/>
            </a:xfrm>
          </p:grpSpPr>
          <p:sp>
            <p:nvSpPr>
              <p:cNvPr id="79" name=""/>
              <p:cNvSpPr/>
              <p:nvPr/>
            </p:nvSpPr>
            <p:spPr>
              <a:xfrm>
                <a:off x="5916600" y="2327400"/>
                <a:ext cx="942840" cy="482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5905440" y="2386080"/>
                <a:ext cx="998280" cy="475920"/>
                <a:chOff x="5905440" y="2386080"/>
                <a:chExt cx="998280" cy="4759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905440" y="2386080"/>
                  <a:ext cx="965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Motorized Scrap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76920" y="2651400"/>
                  <a:ext cx="2268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>
              <a:off x="4122720" y="209088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666960" y="1482840"/>
            <a:ext cx="2725920" cy="1350360"/>
            <a:chOff x="3666960" y="1482840"/>
            <a:chExt cx="2725920" cy="1350360"/>
          </a:xfrm>
        </p:grpSpPr>
        <p:sp>
          <p:nvSpPr>
            <p:cNvPr id="85" name=""/>
            <p:cNvSpPr/>
            <p:nvPr/>
          </p:nvSpPr>
          <p:spPr>
            <a:xfrm>
              <a:off x="3666960" y="1482840"/>
              <a:ext cx="947880" cy="6094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TORIZ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RA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670200" y="2298600"/>
              <a:ext cx="998640" cy="534600"/>
              <a:chOff x="3670200" y="2298600"/>
              <a:chExt cx="998640" cy="534600"/>
            </a:xfrm>
          </p:grpSpPr>
          <p:sp>
            <p:nvSpPr>
              <p:cNvPr id="87" name=""/>
              <p:cNvSpPr/>
              <p:nvPr/>
            </p:nvSpPr>
            <p:spPr>
              <a:xfrm>
                <a:off x="3681360" y="2298600"/>
                <a:ext cx="943200" cy="482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3670200" y="2357280"/>
                <a:ext cx="998640" cy="475920"/>
                <a:chOff x="3670200" y="2357280"/>
                <a:chExt cx="998640" cy="4759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670200" y="2357280"/>
                  <a:ext cx="965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Motorized Grad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441680" y="2622600"/>
                  <a:ext cx="2271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6392880" y="211932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067600" y="1428840"/>
            <a:ext cx="960480" cy="2597040"/>
            <a:chOff x="8067600" y="1428840"/>
            <a:chExt cx="960480" cy="2597040"/>
          </a:xfrm>
        </p:grpSpPr>
        <p:grpSp>
          <p:nvGrpSpPr>
            <p:cNvPr id="93" name=""/>
            <p:cNvGrpSpPr/>
            <p:nvPr/>
          </p:nvGrpSpPr>
          <p:grpSpPr>
            <a:xfrm>
              <a:off x="8085240" y="2270160"/>
              <a:ext cx="942840" cy="480960"/>
              <a:chOff x="8085240" y="2270160"/>
              <a:chExt cx="942840" cy="4809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8085240" y="2270160"/>
                <a:ext cx="942840" cy="480960"/>
                <a:chOff x="8085240" y="2270160"/>
                <a:chExt cx="942840" cy="4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097840" y="2270160"/>
                  <a:ext cx="917280" cy="480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085240" y="2311560"/>
                  <a:ext cx="94284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8086680" y="2395800"/>
                <a:ext cx="9392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 processi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8077320" y="3575160"/>
              <a:ext cx="944280" cy="450720"/>
              <a:chOff x="8077320" y="3575160"/>
              <a:chExt cx="944280" cy="4507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8077320" y="3575160"/>
                <a:ext cx="944280" cy="450720"/>
                <a:chOff x="8077320" y="3575160"/>
                <a:chExt cx="944280" cy="4507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089560" y="3575160"/>
                  <a:ext cx="918720" cy="450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77320" y="3612960"/>
                  <a:ext cx="94428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8078400" y="3692520"/>
                <a:ext cx="941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Out processi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067600" y="1428840"/>
              <a:ext cx="949320" cy="622080"/>
              <a:chOff x="8067600" y="1428840"/>
              <a:chExt cx="949320" cy="622080"/>
            </a:xfrm>
          </p:grpSpPr>
          <p:sp>
            <p:nvSpPr>
              <p:cNvPr id="104" name=""/>
              <p:cNvSpPr/>
              <p:nvPr/>
            </p:nvSpPr>
            <p:spPr>
              <a:xfrm>
                <a:off x="8078760" y="1441440"/>
                <a:ext cx="923760" cy="60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67600" y="1428840"/>
                <a:ext cx="94932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ADMINISTRATI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8550360" y="204480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8567280" y="2754360"/>
              <a:ext cx="180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569440" y="338148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8077320" y="2925720"/>
              <a:ext cx="944280" cy="463320"/>
              <a:chOff x="8077320" y="2925720"/>
              <a:chExt cx="944280" cy="4633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7320" y="2925720"/>
                <a:ext cx="944280" cy="463320"/>
                <a:chOff x="8077320" y="2925720"/>
                <a:chExt cx="944280" cy="4633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89560" y="2925720"/>
                  <a:ext cx="918720" cy="463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7320" y="2966760"/>
                  <a:ext cx="94428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8078400" y="3046320"/>
                <a:ext cx="941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Physical Fitness Traini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50840" y="1492200"/>
            <a:ext cx="1063080" cy="3503160"/>
            <a:chOff x="150840" y="1492200"/>
            <a:chExt cx="1063080" cy="3503160"/>
          </a:xfrm>
        </p:grpSpPr>
        <p:sp>
          <p:nvSpPr>
            <p:cNvPr id="115" name=""/>
            <p:cNvSpPr/>
            <p:nvPr/>
          </p:nvSpPr>
          <p:spPr>
            <a:xfrm flipH="1">
              <a:off x="689040" y="2806560"/>
              <a:ext cx="14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920" y="1492200"/>
              <a:ext cx="954000" cy="6066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URS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41200" y="2325600"/>
              <a:ext cx="957240" cy="473040"/>
              <a:chOff x="241200" y="2325600"/>
              <a:chExt cx="957240" cy="473040"/>
            </a:xfrm>
          </p:grpSpPr>
          <p:sp>
            <p:nvSpPr>
              <p:cNvPr id="118" name=""/>
              <p:cNvSpPr/>
              <p:nvPr/>
            </p:nvSpPr>
            <p:spPr>
              <a:xfrm>
                <a:off x="241200" y="2325600"/>
                <a:ext cx="957240" cy="473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560" y="2392200"/>
                <a:ext cx="838440" cy="302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troduction to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ours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96960" y="350820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240" y="210168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23920" y="3732120"/>
              <a:ext cx="990000" cy="451080"/>
              <a:chOff x="223920" y="3732120"/>
              <a:chExt cx="990000" cy="45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3920" y="3732120"/>
                <a:ext cx="983880" cy="4510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6920" y="3772080"/>
                <a:ext cx="9270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troduction to Environmental Stewardshi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50840" y="4422600"/>
              <a:ext cx="1042920" cy="572760"/>
              <a:chOff x="150840" y="4422600"/>
              <a:chExt cx="1042920" cy="5727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203040" y="4422600"/>
                <a:ext cx="990720" cy="563040"/>
                <a:chOff x="203040" y="4422600"/>
                <a:chExt cx="990720" cy="563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03040" y="4422600"/>
                  <a:ext cx="984240" cy="53028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6760" y="4470480"/>
                  <a:ext cx="92700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Utilize The Arm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Maintenance Management System (TAMMS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150840" y="4784760"/>
                <a:ext cx="2379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36520" y="3011400"/>
              <a:ext cx="957240" cy="473040"/>
              <a:chOff x="236520" y="3011400"/>
              <a:chExt cx="957240" cy="473040"/>
            </a:xfrm>
          </p:grpSpPr>
          <p:sp>
            <p:nvSpPr>
              <p:cNvPr id="131" name=""/>
              <p:cNvSpPr/>
              <p:nvPr/>
            </p:nvSpPr>
            <p:spPr>
              <a:xfrm>
                <a:off x="236520" y="3011400"/>
                <a:ext cx="957240" cy="473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0240" y="3078000"/>
                <a:ext cx="838080" cy="302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troduction to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06320" y="420228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76480" y="1473120"/>
            <a:ext cx="2838600" cy="1371240"/>
            <a:chOff x="2976480" y="1473120"/>
            <a:chExt cx="2838600" cy="1371240"/>
          </a:xfrm>
        </p:grpSpPr>
        <p:sp>
          <p:nvSpPr>
            <p:cNvPr id="135" name=""/>
            <p:cNvSpPr/>
            <p:nvPr/>
          </p:nvSpPr>
          <p:spPr>
            <a:xfrm>
              <a:off x="4822920" y="1473120"/>
              <a:ext cx="947520" cy="609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RAWLE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RA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76480" y="208116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816440" y="2300400"/>
              <a:ext cx="998640" cy="543960"/>
              <a:chOff x="4816440" y="2300400"/>
              <a:chExt cx="998640" cy="543960"/>
            </a:xfrm>
          </p:grpSpPr>
          <p:sp>
            <p:nvSpPr>
              <p:cNvPr id="138" name=""/>
              <p:cNvSpPr/>
              <p:nvPr/>
            </p:nvSpPr>
            <p:spPr>
              <a:xfrm>
                <a:off x="4818240" y="2300400"/>
                <a:ext cx="942840" cy="4824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4816440" y="2368440"/>
                <a:ext cx="998640" cy="475920"/>
                <a:chOff x="4816440" y="2368440"/>
                <a:chExt cx="998640" cy="475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816440" y="2368440"/>
                  <a:ext cx="965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rawler Tracto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587920" y="2633760"/>
                  <a:ext cx="2271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" name=""/>
          <p:cNvGrpSpPr/>
          <p:nvPr/>
        </p:nvGrpSpPr>
        <p:grpSpPr>
          <a:xfrm>
            <a:off x="7010280" y="1469880"/>
            <a:ext cx="944640" cy="451080"/>
            <a:chOff x="7010280" y="1469880"/>
            <a:chExt cx="944640" cy="451080"/>
          </a:xfrm>
        </p:grpSpPr>
        <p:grpSp>
          <p:nvGrpSpPr>
            <p:cNvPr id="143" name=""/>
            <p:cNvGrpSpPr/>
            <p:nvPr/>
          </p:nvGrpSpPr>
          <p:grpSpPr>
            <a:xfrm>
              <a:off x="7010280" y="1469880"/>
              <a:ext cx="944640" cy="451080"/>
              <a:chOff x="7010280" y="1469880"/>
              <a:chExt cx="944640" cy="451080"/>
            </a:xfrm>
          </p:grpSpPr>
          <p:sp>
            <p:nvSpPr>
              <p:cNvPr id="144" name=""/>
              <p:cNvSpPr/>
              <p:nvPr/>
            </p:nvSpPr>
            <p:spPr>
              <a:xfrm>
                <a:off x="7022880" y="1469880"/>
                <a:ext cx="919080" cy="45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10280" y="1508040"/>
                <a:ext cx="944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011720" y="1587600"/>
              <a:ext cx="941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attle Focus Trai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7:49:12Z</dcterms:created>
  <dc:creator>Preferred Customer</dc:creator>
  <dc:description/>
  <dc:language>en-US</dc:language>
  <cp:lastModifiedBy>timothy.blake1</cp:lastModifiedBy>
  <cp:lastPrinted>1998-09-25T20:18:14Z</cp:lastPrinted>
  <dcterms:modified xsi:type="dcterms:W3CDTF">2006-04-10T17:16:11Z</dcterms:modified>
  <cp:revision>21978</cp:revision>
  <dc:subject/>
  <dc:title>No Slide Title</dc:title>
</cp:coreProperties>
</file>